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3D6C-27B4-4EB7-ADED-FFB91C28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2D39-779A-4DBB-A3E5-5B9AE276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FC58-58AD-47D2-A80E-1A488201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2ED9-F428-493E-9AD5-AD7757A8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3018-D649-452A-94E2-59733BA6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B86-43BC-42CF-8FFC-E6906E57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63A3-A36E-4E87-BD4A-ECC68DD4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CBD-E806-489F-A2C9-504CE572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4E3C-7F84-4EC5-82CF-88946C1F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C06C-9097-4237-8B55-AFF77903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E24-90C3-4230-998B-E3BBEBEF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EE77-E273-4A39-BD52-81AFA4CE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E4EA-A14F-421B-97F0-DFDA59E33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kNPBy2i0ss" TargetMode="External"/><Relationship Id="rId2" Type="http://schemas.openxmlformats.org/officeDocument/2006/relationships/hyperlink" Target="http://www.youtube.com/watch?v=peg6rjYPocQ" TargetMode="External"/><Relationship Id="rId3" Type="http://schemas.openxmlformats.org/officeDocument/2006/relationships/hyperlink" Target="http://www.youtube.com/watch?v=peg6rjYPocQ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YeRSgiypbc" TargetMode="Externa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 guide 1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9907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Bohr’s Mode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f the atom – </a:t>
            </a:r>
            <a:r>
              <a:rPr b="1" lang="en-US" sz="2400" spc="-1" strike="noStrike">
                <a:solidFill>
                  <a:srgbClr val="996600"/>
                </a:solidFill>
                <a:latin typeface="Times New Roman"/>
              </a:rPr>
              <a:t>looks like 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167652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lectrons (e-) orbi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round the center of the a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9880" y="25909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center of the atom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 (nucleus) has all the protons (p+) and the neutrons (n</a:t>
            </a:r>
            <a:r>
              <a:rPr b="0" lang="en-US" sz="2400" spc="-1" strike="noStrike" baseline="30000">
                <a:solidFill>
                  <a:srgbClr val="996600"/>
                </a:solidFill>
                <a:latin typeface="Times New Roman"/>
              </a:rPr>
              <a:t>Ø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4419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hen is an atom an atom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and when is it an 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4876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toms are neutral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(no electric charge). the # of protons (p+) and electrons (e-) must be eq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1" descr=""/>
          <p:cNvPicPr/>
          <p:nvPr/>
        </p:nvPicPr>
        <p:blipFill>
          <a:blip r:embed="rId4"/>
          <a:stretch/>
        </p:blipFill>
        <p:spPr>
          <a:xfrm>
            <a:off x="685800" y="1752480"/>
            <a:ext cx="2827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lium a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uminum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44956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s are not neutral. 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y are charged. # of protons do not equal the number of electr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2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6960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ium Ion                             Aluminum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335268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+ =  2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- =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3429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+ = 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- = 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3733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= + 1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3733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= -1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45720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remember atom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annot lose or gain p+s to become an ion.  They must gain or lose e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3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139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use pg. 132 and draw an atom of Oxygen and an Oxygen Ion with a gain of 1 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523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1523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4572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Levels -  Bohr’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odel uses circles to show energy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4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708660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ving away from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 nucleus, the more circles, th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ore energy levels.  Low energy near the center, high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nergy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13716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ach energy level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an hold only so many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981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Electron Cloud Mode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has energy levels like Bohr model, but electrons DO NOT orbit in a fixed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8954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urrently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use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re on thi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odel when (and if) you take chem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Guide 1-4    Forces within the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371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ce =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Push or pull; can move 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18288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forces within the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228600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Gravity –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force of attraction exerted between all objects in 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66688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only extremely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large objects have noticeable gravitational for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30481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ore massive =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more grav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--less massive =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less gra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342900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Gravity in atom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VERY VERY SMAL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3886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Electromagnetic – force that can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attract or repel charged parti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426708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opposites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attract, ther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472428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Prot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+) and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electr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-) at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5181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like charges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repel (electrons repel other electr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1447920"/>
            <a:ext cx="693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k wait a sec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f like charges repel,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why do they not fly away and destroy the atom?  Because they are stuck in the energy levles, but they do get as far away as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24382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k, wait a sec again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ns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repel each other too, but yet they are tightly packed within the nucleus..explain how ol’ wise on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32004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Strong – force that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“glues” protons together.  Only works at close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distances</a:t>
            </a:r>
            <a:r>
              <a:rPr b="0" lang="en-US" sz="2000" spc="-1" strike="noStrike">
                <a:solidFill>
                  <a:srgbClr val="9966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reason protons are tightly pack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38862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3962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Weak – force responsible for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radioactive decay.  Mostly found in the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nucle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47242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Neutrons break into protons and 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5:48:30Z</dcterms:created>
  <dc:creator>jpak</dc:creator>
  <dc:description/>
  <dc:language>en-US</dc:language>
  <cp:lastModifiedBy>User</cp:lastModifiedBy>
  <dcterms:modified xsi:type="dcterms:W3CDTF">2010-08-09T00:14:43Z</dcterms:modified>
  <cp:revision>26</cp:revision>
  <dc:subject/>
  <dc:title>Note guide 4-3</dc:title>
</cp:coreProperties>
</file>